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EC4-E989-4B19-8823-6F8AE7AB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6C3-B1C0-4690-9B3E-4A5B018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3C9-2D9C-4CF5-9877-C810440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D17-2021-4006-AB64-457D224F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2E3-AA70-40C5-8664-8E233C8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529-2FDA-4FCB-8EF4-51B109E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263-7311-48DE-BA37-2CED939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544-BD77-4B23-8C03-51BED49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17D-3E8D-4D16-BD5A-6A89F9E5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145-D318-4E94-BED1-7CC7FD0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80E-AA92-495A-A499-B45E42A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D5C-3E39-44F9-9F1F-8A653A6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448-4335-4A94-852B-989739A9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2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reative ideas can solve problems or answer questions.  When are creative ideas good?  When are they bad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feel when someone tries to trick you or when anyone lies to you?  What is something you can d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terday Farmer Smart had a problem.  Today he finds a way to fix it.  Tomorrow he won’t have the problem anymore!  How do you fix your problem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a small clever insect.  A spider spins long, sticky webs to trap bugs to eat.  Do you know why the spider doesn’t get stuck in its own web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week we read about characters who had creative ideas.  When are creative ideas good?  When are they ba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14T02:27:19Z</dcterms:modified>
  <cp:revision>46</cp:revision>
  <dc:subject/>
  <dc:title> Morning Warm- Up! The cat needs some water.  The dog wants a bone.  That bird lives in a birdhouse where she feels quite at home.  How do people take care of pets?</dc:title>
</cp:coreProperties>
</file>